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767-BE10-4691-9D77-46226230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9F0-A433-42BF-A6AB-240D0B44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EBC-FBD6-4F0A-B5FB-91689FA4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D0F-6B05-4C6D-9554-EF175A0D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DF5-D737-4DD3-AB99-065D3015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0BF-74E2-4787-B34B-BFCC5A75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DFA-C40F-4C54-BEAD-BE3E352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EA8-0B45-4D8B-B0D2-061F703D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F9A-932B-4196-9434-1A6E951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5E1-5B11-4C35-BFB4-CBCED3B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DCC-D9CD-4620-B52A-66A839C3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2B7-481D-45AF-A7F1-C07700A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3A8-8450-4C19-9BBE-CFBF6E5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FC5-0AB9-48E5-AC83-6F5CEBF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763F-3B0D-4707-A7EF-167AC90E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64" name="Text Box 22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26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71" name="Line 31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32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3" name="Group 39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74" name="Text Box 12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38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83" name="AutoShape 6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Text Box 11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9" name="Text Box 5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5" descr="1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6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201" name="Text Box 17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 Box 43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49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8" name="Text Box 50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56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15" name="Text Box 57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58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61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62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63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8" name="Text Box 9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9" name="Picture 12" descr="1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44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32" name="Picture 24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50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3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35" name="Picture 54" descr="1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55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56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57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Group 61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40" name="Group 34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41" name="Text Box 15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2" name="Picture 17" descr="1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21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44" name="Picture 22" descr="1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3" descr="1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8" descr="1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2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53" name="Text Box 7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21" descr="1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0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56" name="Picture 81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82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83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9" name="Picture 84" descr="1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85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86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87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88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64" name="Text Box 89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5" name="Picture 90" descr="1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93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7" name="Line 35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9" name="Picture 39" descr="1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0" descr="1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1" descr="1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42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3" name="Picture 44" descr="1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5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62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8" name="Picture 91" descr="1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2" descr="1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95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81" name="Text Box 5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3" name="Picture 24" descr="1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25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6" name="Picture 29" descr="1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0" descr="1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1" descr="1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3" descr="1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61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91" name="Picture 94" descr="1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4" descr="1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Group 36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302" name="Text Box 18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37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9" name="Text Box 19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Text Box 26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29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Text Box 31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35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8" name="Text Box 33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Text Box 34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0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29" descr="1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42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7" name="Text Box 30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Text Box 31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32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33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43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34" name="Picture 19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1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AutoShape 38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Text Box 39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AutoShape 40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AutoShape 41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9" descr="1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3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8" name="Line 37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1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5" name="Group 44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56" name="Picture 45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6" descr="1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47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Text Box 48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AutoShape 49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AutoShape 50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2" name="Group 52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63" name="Line 27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4" name="Group 30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65" name="Picture 26" descr="1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9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7" name="Text Box 31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34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1" name="Picture 51" descr="1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8" descr="1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5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76" name="Group 6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8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Text Box 9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5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85" name="Group 16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86" name="Pictur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18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8" name="Text Box 19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Text Box 20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0" name="Group 47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91" name="Text Box 21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7" name="Group 44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8" name="Text Box 28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Text Box 36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Text Box 38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Text Box 40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oup 45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406" name="Text Box 29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Text Box 31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Text Box 35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37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39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41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Text Box 4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15" name="Text Box 5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8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19" name="Text Box 20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Group 23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21" name="Picture 16" descr="1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Group 19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23" name="Text Box 17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Rectangle 18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Text Box 21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8" name="Text Box 10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9" name="Group 11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30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13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2" name="Text Box 15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24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36" name="Text Box 19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9" name="Text Box 17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2" name="Text Box 2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6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8" name="Group 6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9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Text Box 8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Text Box 9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2" name="Text Box 10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55" name="Group 7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56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9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8" name="Text Box 10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36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61" name="Text Box 12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16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7" name="Group 33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8" name="Text Box 18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20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24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Text Box 26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30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5" name="Group 34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76" name="Text Box 19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31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3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85" name="Text Box 5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89" name="Text Box 9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9" descr="ae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93" name="Text Box 5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4" name="Group 6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9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Text Box 8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97" name="Text Box 9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Group 20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501" name="Text Box 13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504" name="Text Box 16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7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0" descr="1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1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8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20" descr="1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1" descr="1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50" descr="1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60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82" name="Text Box 18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19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Line 31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34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52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7" name="Picture 55" descr="1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8" descr="1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9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62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91" name="Text Box 37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40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9" name="Text Box 10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29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8" name="Text Box 16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10" name="Text Box 13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5" name="Group 45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16" name="Text Box 19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25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2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25" name="Line 31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41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31" name="Text Box 5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36" name="Text Box 11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46" name="Text Box 19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00:33Z</dcterms:modified>
  <cp:revision>56</cp:revision>
  <dc:subject/>
  <dc:title>Slide 1</dc:title>
</cp:coreProperties>
</file>